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D2D-B66A-4F41-85DA-A201EF8F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16E-2EA0-4926-A118-AF2E9F8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E61-FEFA-4268-9D62-4BCEE36C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386-761D-4044-99F5-F5A17E6D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4676-D0EC-4852-AC00-45B1F687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DF45-C37E-46AC-A648-807909F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B27-F045-41B8-BF42-3CB88B97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DE02-DAD9-4490-B51B-871179D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34F8-5710-444A-B905-B9C8F06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E74-F298-4074-82B4-0E084F87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CA92-B404-4A45-A734-6537D20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04C-9B5D-4F0E-B71D-EB5F070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BCCE-5FD9-4247-A48C-7951B55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F5AD-C2CE-4E0A-BE8F-33EDA7D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E7B-79BF-4B26-8FB9-0D1C9816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2C06-E3D2-4FAC-8CA6-E92B0A12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78F4-F178-4039-BC78-C4533116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5E87-0CA5-4993-91DE-61B037FD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0605-6527-4FDB-9AE4-08349A83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4558-58F2-49CE-8CAA-3FC72DB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1335-AAD6-4328-AC8A-437C1CE3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FA4F-FEA6-4E5F-B60C-5098F9A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E3D-FC48-4FED-A057-68B27EE3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309F-C0F4-4D85-A65E-BD89EEF0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4D95-C5AF-48AC-BFC9-CDCD97E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260D-E844-40D4-8D13-639C017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9EF4-5221-4B90-9EFF-9B3A724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8D89-BCD6-4462-B35C-6719E1A7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EE32-5DC8-4EBA-88D1-DAC108D9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D980-097D-4915-8695-57E3D86B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AA2-1C10-4CBB-8BF0-32A19F4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E11-EE4E-426D-A0E1-B73FB41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E6B-5F60-4B8E-ACAC-BCF1511D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FBA-DDC9-4A2C-80F0-FE29C69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38B-7412-429D-9968-DB9F81ED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E42-43DC-4C9C-8E15-9F286906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F4C-2224-47AC-85B2-7B989BAC54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6324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F72-8B44-4073-9B77-171F1A0551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668-5D6A-4125-B19C-F4644408C7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6324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69696"/>
                </a:solidFill>
                <a:latin typeface="Arial Black"/>
              </a:rPr>
              <a:t>Electricity</a:t>
            </a:r>
            <a:endParaRPr b="0" lang="en-US" sz="44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520" y="19807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tatic Electricit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83808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Sparks…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520" y="1752480"/>
            <a:ext cx="678168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arged atoms follow the same rule as magne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Opposite charges attract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Like charges repel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3434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one atom has more electrons than protons, the electrons want to move back to atoms that are missing so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486400" y="3294000"/>
            <a:ext cx="3657600" cy="3564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99072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Shocking!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tra electrons build up on the surface of insulating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something with an opposite charge comes close enough, the electrons are attracted and……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185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811600" cy="4267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200400" y="228600"/>
            <a:ext cx="4724280" cy="4254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90920" y="464832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ightning is static electricity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657600" y="3124080"/>
            <a:ext cx="23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ight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4600440" cy="5334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 rot="20596200">
            <a:off x="5562360" y="1904760"/>
            <a:ext cx="3124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hocking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2886120" cy="3352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62520" y="228600"/>
            <a:ext cx="3886200" cy="299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3860640" cy="233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5562720" y="3124080"/>
            <a:ext cx="3163680" cy="3733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3124080" y="31240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505320" y="4800600"/>
            <a:ext cx="1523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i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ir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1981440" cy="1650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What is static electricity?</a:t>
            </a:r>
            <a:endParaRPr b="0" lang="en-US" sz="40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5120" y="2590920"/>
            <a:ext cx="67816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Before we find out what static is, we need to learn about atoms!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5638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By the way, don’t write anything that is slanted…..like this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2381400" cy="3200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95480" y="4648320"/>
            <a:ext cx="1524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7040" y="4419720"/>
            <a:ext cx="685800" cy="22860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343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……not Adam……ATOM!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495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Adam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4120" y="4876920"/>
            <a:ext cx="2171520" cy="167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Ato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thing in the world is made of ato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oms are the smallest particles of matter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If you broke a piece of gold down until it you had the smallest piece possible, it would be one atom.  If you broke that atom up, it would no longer be gold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oms are made up of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thre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different particl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se are called </a:t>
            </a:r>
            <a:r>
              <a:rPr b="1" lang="en-US" sz="2800" spc="-1" strike="noStrike" u="sng">
                <a:solidFill>
                  <a:srgbClr val="5f5f5f"/>
                </a:solidFill>
                <a:uFillTx/>
                <a:latin typeface="Arial"/>
              </a:rPr>
              <a:t>subatomic particle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.  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“Sub” means below or smaller, and “atomic” means the atom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2514600" cy="2484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9718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048120"/>
            <a:ext cx="1752480" cy="3808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809880"/>
            <a:ext cx="190476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495680"/>
            <a:ext cx="2133360" cy="22860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Ato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678204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5f5f5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5f5f5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are stuck together in the middle of an atom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make the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2514600" cy="24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666880" y="4952880"/>
            <a:ext cx="1533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ucleu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419720" y="5181480"/>
            <a:ext cx="19810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5120" y="9907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Ato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f5f5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float around the nucleu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can be easily removed from one atom and deposited onto another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514600" cy="2484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90920" y="4876920"/>
            <a:ext cx="17809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572000" y="434340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0" y="4800600"/>
            <a:ext cx="11430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5410080"/>
            <a:ext cx="2362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95480" y="3352680"/>
            <a:ext cx="1262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333600" cy="3029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 Black"/>
              </a:rPr>
              <a:t>So where does static electricity come in?</a:t>
            </a:r>
            <a:endParaRPr b="0" lang="en-US" sz="40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ubatomic particle has an electrical charg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= negative charge (-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= positive charge (+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= neutral charge (n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9880" y="5257800"/>
            <a:ext cx="1981440" cy="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3063960" cy="3124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514600" cy="2484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120" y="106668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Charge it up…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72388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oms usually have an equal number of protons (+) as electrons (-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f they do, then they don’t have an electric char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943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94360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86728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594360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594360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71500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638680"/>
            <a:ext cx="228600" cy="2286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943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943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5715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715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572000"/>
            <a:ext cx="2667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oper Black"/>
              </a:rPr>
              <a:t>6 Prot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oper Black"/>
              </a:rPr>
              <a:t>6 Electr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3276720" cy="2265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Charge it!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69608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electrons get moved from one atom to another, the atom’s charge chang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f an atom has more electrons than protons, it gains a negative charge because the negative electrons out number the positive prot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4956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Rockwell"/>
              </a:rPr>
              <a:t>4  Electrons and only 1 Prot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5572080"/>
            <a:ext cx="4800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gatively charged ato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6248520"/>
            <a:ext cx="1143000" cy="0"/>
          </a:xfrm>
          <a:prstGeom prst="line">
            <a:avLst/>
          </a:prstGeom>
          <a:ln w="475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7:59:50Z</dcterms:created>
  <dc:creator>nbdoe</dc:creator>
  <dc:description/>
  <cp:keywords/>
  <dc:language>en-US</dc:language>
  <cp:lastModifiedBy>nbdoe</cp:lastModifiedBy>
  <dcterms:modified xsi:type="dcterms:W3CDTF">2007-11-26T10:29:41Z</dcterms:modified>
  <cp:revision>27</cp:revision>
  <dc:subject/>
  <dc:title>Electri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Keywords">
    <vt:lpwstr/>
  </property>
  <property fmtid="{D5CDD505-2E9C-101B-9397-08002B2CF9AE}" pid="6" name="Slides">
    <vt:lpwstr>15</vt:lpwstr>
  </property>
  <property fmtid="{D5CDD505-2E9C-101B-9397-08002B2CF9AE}" pid="7" name="Subject">
    <vt:lpwstr/>
  </property>
  <property fmtid="{D5CDD505-2E9C-101B-9397-08002B2CF9AE}" pid="8" name="_Author">
    <vt:lpwstr>nbdoe</vt:lpwstr>
  </property>
  <property fmtid="{D5CDD505-2E9C-101B-9397-08002B2CF9AE}" pid="9" name="_Category">
    <vt:lpwstr/>
  </property>
  <property fmtid="{D5CDD505-2E9C-101B-9397-08002B2CF9AE}" pid="10" name="_Comments">
    <vt:lpwstr/>
  </property>
  <property fmtid="{D5CDD505-2E9C-101B-9397-08002B2CF9AE}" pid="11" name="_TemplateID">
    <vt:lpwstr>TC010721241033</vt:lpwstr>
  </property>
</Properties>
</file>